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E47-A08A-4630-928E-4FDBBA2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D23-1E96-4AE3-8B1B-B463C52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4CF-B40A-4957-9188-9FC41149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50D-6262-40A1-BE9C-7CAF35ED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11D-C769-4D71-9E05-3C256A9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240-DE4B-430E-9F84-B9A26576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7BA-0ED2-4186-B3A1-901055E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AF4-A48F-4497-AD21-CBE10C5B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6C3-B11B-4E25-AE12-4859997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F457-9203-4848-9D28-C4803393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67F-39AD-47FC-83CF-B42083B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93C-035E-4B91-B06A-E9B46D5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E776-D0E0-4029-BDA0-2A0DB9F0C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540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916" t="0" r="28565" b="0"/>
          <a:stretch/>
        </p:blipFill>
        <p:spPr>
          <a:xfrm>
            <a:off x="4284720" y="620640"/>
            <a:ext cx="4621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400720" cy="4456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4267" b="13103"/>
          <a:stretch/>
        </p:blipFill>
        <p:spPr>
          <a:xfrm>
            <a:off x="3924360" y="3409920"/>
            <a:ext cx="4968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47:52Z</dcterms:created>
  <dc:creator>01690112</dc:creator>
  <dc:description/>
  <dc:language>en-US</dc:language>
  <cp:lastModifiedBy>01690112</cp:lastModifiedBy>
  <dcterms:modified xsi:type="dcterms:W3CDTF">2009-07-21T09:07:12Z</dcterms:modified>
  <cp:revision>2</cp:revision>
  <dc:subject/>
  <dc:title>Slide 1</dc:title>
</cp:coreProperties>
</file>